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F36-F991-48D2-BBAB-0B2B5EF2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CE7-582C-4921-A7EC-35DCD975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67E-BED4-4249-BAFC-D11A53D3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8A3-FF86-445F-8FF5-64539788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D92-9C69-4A33-9D26-DEDE60EC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0855-5857-4849-80CA-8752849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7E3-CABC-470F-942E-1336746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6025-7913-4A45-AD24-9B09D79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2306-D73D-434C-B677-AD94536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57B3-BCD1-4218-AF70-2D966268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8A05-545C-4E75-B291-A598B00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626-BBFF-4CE8-B8A1-A80744E5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4275-7408-4619-A2BD-D63AC32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DD8-EAC9-4895-B6EE-47C801F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142-E4A6-4B18-8C31-507E8F6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6FD-5208-4294-905A-7CAA712E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B76E-77DC-430A-83E0-5E95A5E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A2D7-C26C-4C73-BA99-74F8A877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93B5-9D9E-4A95-BE95-9D9E75A1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305E-260D-412F-B1AD-0FD2D821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C376-F954-4D28-9899-7B87EB2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1340-3A8A-40C7-8860-152E228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61-3E7F-423A-B472-D437177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77B6-B355-4141-B9B9-7C24F1B0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4515-3C0E-4B33-83EF-4553879F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5F34-C2E0-4621-BD5B-72C7813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4B62-FA4D-43F2-86AE-EBBE0C9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EDA5-B05C-4483-8211-08D1E808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4611-BAB4-4891-A486-EEC0C9C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C27C-BB87-451B-8F56-05546EA0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B67-8E09-43CE-8ACA-D6CBA16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C6A-272D-45C2-A256-A0F9EF62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243-A7B6-4580-A02D-A8B57B52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1F1-8DD6-4E9F-8392-AFC20EA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13D-29E4-4617-8E92-DA82994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767-EF56-49B0-A647-43D36B7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548-ECA5-4675-A92A-554EB3669B2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E3F-55F9-4E64-B46B-51E081101831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7D2F-8449-497F-BEF9-1622400DA11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1454-1DBE-4932-AFF1-11E2056738C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393840" y="2031840"/>
            <a:ext cx="79754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IN INDONES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Overview - Indonesia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60 million people living in more than 1900 isla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bout 60% of them in rural area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ery decentralized system in 440 districts, 33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DGs: only 3 targets are off tracks: Maternal mortality, HIV infection and fores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verty rate declines fr 35% in 97 to below 15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alnutrition among children declines from 8% to 2.1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&amp; Poverty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Surplus of rice production in last 2 yrs after 7 year  net impor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Production mainly in Java, Sumatera, Sulawesi – other islands are dependent to shipping, waves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Inequalities among districts in terms of no. of poor people, availability of natural resources, fiscal capacity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Nutrition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stunting nationwi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iron deficiencies, and iodine and vit. A in some reg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cket of malnutrition and hunger in some districts (East and West Nusatenggara and Papua provinces) due to longer dry seasons (drough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No EC funded programme but the regional on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Social protection programm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ash transfer to poor families in the last 5 yrs – now moves to Conditional cash transfer focused on health &amp; education indicators – piloted in 6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DD programme: USD 100,000/sub-district for basic infrastructure (irrigation, roads, health facilities etc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bsidized rice distribution to poor families in priority provinces in the last 5 y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health insurance and scholarship for poor famil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provide TA to CDD and C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6:52Z</dcterms:modified>
  <cp:revision>908</cp:revision>
  <dc:subject/>
  <dc:title>No Slide Title</dc:title>
</cp:coreProperties>
</file>